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8BC-A45D-4DBA-B6F3-EFBF608A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4B2-AE55-48CB-AD22-8E4CED04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13D-E973-41AE-925B-C5D28BAA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127-C101-471E-A832-54373516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097-5449-4BDA-B3DB-CC9CFB28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3FE-1903-42D4-8ADD-F5744662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646-BE49-465D-97A1-FBDB69A4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817-CA14-434A-BD43-E35F1825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A3D-1B23-4AA3-BE9C-2A692DBA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D33-278B-474A-A384-835AD57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8A1-7375-416D-B5D2-14311AAE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105-FD83-4C14-BD54-AE913C12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6D7-9AEB-4B75-81A2-E83CA87DA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Worlds%20first%20IT%20guy%20%5Bwww.keepvid.com%5D.mp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lycom.com/solutions/industry/education/primary_second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lycom.com/global/documents/solutions/industry_solutions/education/program_resources/polycom_academic_training_brochure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Polycom in Your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e Kulba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nuary 19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Ea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, Test &amp; Test Some Mo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ra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Practice/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istrator\Local Settings\Temporary Internet Files\Content.IE5\YELAX2WF\MC900441902[1].wmf"/>
          <p:cNvPicPr/>
          <p:nvPr/>
        </p:nvPicPr>
        <p:blipFill>
          <a:blip r:embed="rId1"/>
          <a:stretch/>
        </p:blipFill>
        <p:spPr>
          <a:xfrm>
            <a:off x="2666880" y="1447920"/>
            <a:ext cx="388476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Technology In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Poly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to Get Sta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in the Class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to find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to Connec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Use the Poly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IT Gu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irst IT Gu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olyc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olycom 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We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y, Play &amp; Play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FF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husiastic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ovative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ng and Old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We’ve D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S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rthern Irelan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hiladelph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lippery Ro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shanno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lue Collar &amp; Proud of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ad Across the Plan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SSA Pre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hool to Schoo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nam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besity Epidem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to Get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cademic Training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com Content Access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Providers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s Around the Pl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space (projects.twice.c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com Events for Educ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roun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/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building to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 com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cal Difficul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 “Buy I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Polyc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trouble with computer.jpg"/>
          <p:cNvPicPr/>
          <p:nvPr/>
        </p:nvPicPr>
        <p:blipFill>
          <a:blip r:embed="rId1"/>
          <a:stretch/>
        </p:blipFill>
        <p:spPr>
          <a:xfrm>
            <a:off x="2514600" y="1295280"/>
            <a:ext cx="38862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3:13:04Z</dcterms:created>
  <dc:creator> </dc:creator>
  <dc:description/>
  <dc:language>en-US</dc:language>
  <cp:lastModifiedBy> </cp:lastModifiedBy>
  <dcterms:modified xsi:type="dcterms:W3CDTF">2011-01-19T01:32:00Z</dcterms:modified>
  <cp:revision>3</cp:revision>
  <dc:subject/>
  <dc:title>Using the Polycom in Your Classroom</dc:title>
</cp:coreProperties>
</file>